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A661F-C93B-47AA-A6E0-963C60A2D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42BD3-8729-47AC-8E30-3332D07A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7CB30-4AA3-4E32-AAC3-8022F674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07DE3-8B30-44D3-82EE-3DC4A265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3F0A0-9CA0-40AD-87A4-E4FD0F21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CABF61-D938-49A7-B1DB-8DDBB11B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ED3DC-05E1-43AE-974C-44BEC5B0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125129-F140-4E39-BF06-77A72C2C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1C74E4-F306-4709-A525-C101C7FD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054A46-F090-4D7F-BB44-0E8753772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B3CE0-AAD1-43DC-AC31-5FDAC19E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162E12-12E0-475D-9101-8DD84A460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0C2A5-4556-4861-B5DC-35C5B61A8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F4FBA-84F5-4C74-A101-321A0DCC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F35FB-3185-4EF2-9079-3E14C725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139195-6F49-4342-A2DC-AF58FCCE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E44CE6-1DBE-4E8B-B33C-2086F9A8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68CDAF-5149-474F-9D34-A1EF9CD5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310498-CAEB-438D-95D8-2183F692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2D9618-9A54-438A-A5AD-5EAE9E8C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3EC33-FF9A-46A6-A1EF-20A97276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AC824-34EE-4D87-B546-57157715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177407-BA05-4E8C-B8CE-FE2C40CDA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ED85D-849C-432B-8257-153C30D99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4786B-45F8-47E8-9412-A71883808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60958-1BE6-4FE5-9AD8-7C97337F8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E76C9-FBE5-4C67-8FC6-21A39385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E6D89-216D-4A3E-A78B-0C693CC9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EEF18-5B22-4879-8853-B01C3C6E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9196C-DD68-4A94-A87D-72537F48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71C93-12E3-4339-8182-8067D0D4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5AC59-3B4E-4F9B-9C78-2ADD86E0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9A952-4F14-4DE8-A7F0-61331C7E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AD444-CFAD-4A04-AB9E-798377BB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75FB4-6135-4C08-9ABC-069DB8F8A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20FA7-1A85-4BDD-9911-9539DDE9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60D80-FE62-4C35-958D-ACCC7C0C0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20781-C725-4786-A85D-C33FC8D9C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EF0D-1010-44DE-85F6-BB7B52E4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09BA-5249-4634-AEEC-A5C83874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9A4D-88C4-4F21-8C02-94A29A8C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7BFE-5408-4703-8E35-828511FF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F7DD-EE99-470C-9DBC-93DABF80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EEEA-2530-40FF-AE95-80784C7E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01B29-EA20-42AA-80D7-7E8CCB7C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0403-551A-4AAD-A768-210AF3D6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839A-592C-4D84-B3C5-AC4813A9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41D6-092E-4F4B-BF63-B13542C5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B32C-1728-4189-90AB-B25E5264A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F8A8-DD79-4684-939D-5C4D7015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B402EC-9B04-4C6F-918A-A383A95AA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A50130-9AA8-4850-A312-247E4F78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570CBF-1841-4CA3-9BCF-0B7CEC6E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23AFD8-F0FB-4D75-990E-0BA7E512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D12F19-4B38-49A1-9A04-CBE22F4D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AE244-270E-403C-8052-A5351044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563ECE-A58D-49FB-9961-B4625468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CD0EA9-A9F3-4E94-A9FC-51B44885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F80EE8-56E6-43FE-9028-32E70A36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E785A4-79F7-4DD2-9440-1FA7493F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BFA359-7465-43BC-8D19-FD6FFDFD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8DB053-D5B4-48CF-9B1F-EEDDBFDDC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19D8F4-3307-4622-938E-F9DAD7BD5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DD145-2BDB-47E0-A62A-3BF7D02F7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A32AD-38C4-4F01-A3E1-729C2E69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9080A-B21A-4344-9BC0-C402123A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C102D-C465-4332-82E5-2640ED31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7329F-E60A-48C8-BF1F-AC0EAD11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15DA8-F9EA-49E3-84BE-D2BAFE60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B2B88-5390-4E45-B234-F85E0CE4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B1A1A-CEAA-4C92-9FD1-867208BC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48375-DD47-4277-A021-B7461C1C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CBE7D-B051-4548-A03B-C1434408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5D6F7-4CE8-4E5F-BA8C-068AA71E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154E6-201B-4DC3-A2E1-3ACF0E897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E2FC7-B1C1-4C80-ABB6-B2248833B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938C5-CD7E-4084-AC18-13FB791E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5BA9D-345E-4534-BA95-5DF6501F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8F0BA-844E-444C-A958-302F0908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6DA67-C025-4475-81E8-1CFD4569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6DAA5-4BF5-4A5E-92B7-BABC970A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DB632-EECB-4F2E-8254-A17D16FF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0C519-B140-4D7D-97E1-29C417EB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24DC5-B6A6-4878-A124-6E012A84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1031C-E230-4E90-A2C8-6F574B26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F7F9E-90A8-46FF-A2C3-09969560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D92E2-ACA6-44A3-B09A-3E83873E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79554-BD37-4707-B626-24E9F4BE9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8087F-DF20-4F71-9868-89CF95AC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35094-5887-4657-B15B-821427848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7E12D-2E42-4CD7-836F-2C5115A37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03780-0A12-4B86-8DC7-BAD7295D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68772-9633-4000-8D89-8B8FD7C8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23DC9-BB78-47EE-B665-4164AC06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B6D8C-3FA4-448A-8E5F-82037598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5D3BB-0DF1-4020-8A6A-B7657823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FEA43-4506-44FC-9D57-757185FF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E90B0-1F4D-499D-A834-F8A07357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9E5C9-ABFB-42E4-9EAD-0DB42D7F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FACB9-7048-43AD-9F53-1AF2BAFE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E0106-C6AE-477E-AB72-2C0B3D8E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19C2D-E69B-42B4-8F32-D741E4157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980DC-3BD9-46EE-BBD5-3393DB4AE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B48B9-3426-4727-A44F-299B922DC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D34BC-9783-444A-B81B-39755795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0B233-518C-4A9A-9348-C758C660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A2375-0608-4317-9360-7629B704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DDAEB-F847-4F2A-B1D7-29237650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F6D6C-0CC1-4E48-9B9C-3CADD250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BB0EA-E7F5-468D-97D1-2FB4B27A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68B3A-D028-4A0D-B97C-DCFA4BCF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D1663-47AF-4F76-A1B8-7A3481C7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F79B1-C4E2-4CD3-ACEB-6CF621FE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C36C1-A2E9-4168-83C2-DF0CB941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5A200-ED23-4D9D-9983-78D7E5247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DA920-6444-4A84-A4D6-780474121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AC270-5EB2-4C27-BDDE-C300A6F98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BE8B9-9DC9-49F4-B438-EBFE61EF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1874C-5FE2-4592-89DB-99291D5A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0EC82-F371-408D-8678-340BCA57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4127F-CC77-4271-A761-69DB4106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3B75E-6C34-4493-A752-1CC186D0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C3013-BC5E-4F9E-A702-068A3B95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033A4-57DB-4D64-A323-5CC5CE92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7A218-04B1-4746-BC28-CC2A9933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8597B-21E7-4E7E-9A99-439F3500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73F73-1160-43F4-AA86-88299552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22C3E-34DA-47A0-B697-B17738EA7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BFC7F-A888-47FF-B234-11A533151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4A1D7-F99B-4671-B42F-C5B96CC23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C2DD8-2E70-433B-86D8-B944AC00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E716F-98CE-411C-AF95-3976336E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6DD9-DE03-4EB1-9051-D462BE67D51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6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6C65-D7EC-4E93-9700-8472F6FDC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8145-1D70-457C-8198-6F06549083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DDCC-DD7F-4D43-92D4-0C4C3DE435D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27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1095-0E3B-47A7-985E-AB9AA5E6E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384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EA33-AB42-4A43-BEB5-89544B403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9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640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1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642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67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3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6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687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6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dt" idx="1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ftr" idx="1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7143-8D62-4477-B95C-3532A1C775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746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748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73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774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9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2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2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502E-8A51-47F5-8024-8A989CB69F5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85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85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85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5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86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86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86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86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86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87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87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87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88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88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88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9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9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9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89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0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0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0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91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91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91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92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92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92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3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93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93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93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4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4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4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4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95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95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95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96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6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4CE5-11BE-428F-8B8D-E74FF443A7E8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02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02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03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03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03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03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03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04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04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04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04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5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05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5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05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5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05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6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06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6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06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6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06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6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07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7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07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7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07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7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07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8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08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8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08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8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08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09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09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09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0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10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10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10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11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11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11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12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12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12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12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13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13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13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13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14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CC12-5D6F-4F13-A709-0D31E130B3D7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0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DED1-FD88-4DCE-838C-13D70D6BB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2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ttp://www.defence.gov.au/news/NAVYNEWS/editions/5004/images/15-engineer%2520pic.jpg&amp;imgrefurl=http://www.defence.gov.au/news/NAVYNEWS/editions/5004/features/feature3.htm&amp;h=465&amp;w=600&amp;sz=311&amp;hl=en&amp;start=12&amp;um=1&amp;tbnid=EzPjiemKDeoV2M:&amp;tbnh=105&amp;tbnw=135&amp;prev=/images%3Fq%3Dengineer%2B%26um%3D1%26hl%3Den%26sa%3DN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images.google.com/imgres?imgurl=http://i3.photobucket.com/albums/y91/WesMolebash/invitation2.gif&amp;imgrefurl=http://www.vipercomics.com/webComics/yht/labels/Randomness.asp&amp;h=552&amp;w=274&amp;sz=40&amp;hl=en&amp;start=9&amp;um=1&amp;tbnid=IfTxd4cj2DuOmM:&amp;tbnh=133&amp;tbnw=66&amp;prev=/images%3Fq%3Danimated%2Bbachelor%2527s%2Bdegree%2Bpics%26um%3D1%26hl%3Den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tateuniversity.com/assets/logo/image/9269/large/University_of_Phoenix_San_Diego-building.jpg&amp;imgrefurl=http://www.stateuniversity.com/universities/CA/University_of_Phoenix_San_Diego.html&amp;h=412&amp;w=640&amp;sz=31&amp;hl=en&amp;start=2&amp;um=1&amp;tbnid=5q_Z0ZArvHoSLM:&amp;tbnh=88&amp;tbnw=137&amp;prev=/images%3Fq%3Dphoenix%2Buniversity%2Bpics%26um%3D1%26hl%3De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oziahr.com/uploaded_images/IMG_3223-731582.JPG&amp;imgrefurl=http://www.coziahr.com/&amp;h=1200&amp;w=1600&amp;sz=376&amp;hl=en&amp;start=5&amp;tbnid=lMbSw0j6Oqo1VM:&amp;tbnh=113&amp;tbnw=150&amp;prev=/images%3Fq%3Da%2Blot%2Bof%2Bpeople%2Bpics%26gbv%3D2%26hl%3Den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nthonares.net/JET_tokamak.jpg&amp;imgrefurl=http://www.anthonares.net/index.php%3Ftag%3DSpace-Advocacy&amp;h=463&amp;w=800&amp;sz=136&amp;hl=en&amp;start=8&amp;tbnid=sYE5f-N8YvMIcM:&amp;tbnh=83&amp;tbnw=143&amp;prev=/images%3Fq%3Dnuclear%2Bengineer%26gbv%3D2%26hl%3Den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Rockwell Extra Bold"/>
              </a:rPr>
              <a:t>ENGINE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 type="subTitle"/>
          </p:nvPr>
        </p:nvSpPr>
        <p:spPr>
          <a:xfrm>
            <a:off x="-228960" y="175212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So you want to be an engineer well to be an engineer your going to need a couple of thin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onclusion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in conclusion engineering is a pretty cool jo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get to work with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get a good sal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lly there is no big downsides of being an engine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 Rounded MT Bold"/>
              </a:rPr>
              <a:t>What is an enginee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57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ngineer is someone who solves technical problems by using theories and principles of science and mathematic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38280" y="3657600"/>
            <a:ext cx="3657600" cy="2819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at do you need to do to be an enginee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an an engineer you need to meet these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need to earn a bachelor’s degree in engine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bachelor’s degree in physical science or mathemat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licensed you Have to take a program that is accredited by the 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accreditation board for engineering and technology for four ye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86200" y="3962520"/>
            <a:ext cx="1905120" cy="2895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ngineers Advanc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you start out as an entry level engineer you gain experience knowl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ill make you work more independently with decisions, developing designs, and solving proble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earning more experience you can become a technical specialist, supervisor over the staff or team of engineers or technicia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ually you can become an engineering manager or go to managerial or sa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p Engineer college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me engineering colleges a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niversity of phoeni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ry institute of technolog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Georgia institute of technolog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4191120"/>
            <a:ext cx="4876920" cy="2666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ngineer sal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tarting out engineers get paid between 40 to 80 thousand dollars depending on what kind of engineer when you are experienced they can get paid up to 140 thousand dollar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74" name="" descr=""/>
          <p:cNvPicPr/>
          <p:nvPr/>
        </p:nvPicPr>
        <p:blipFill>
          <a:blip r:embed="rId1"/>
          <a:stretch/>
        </p:blipFill>
        <p:spPr>
          <a:xfrm>
            <a:off x="609480" y="2895480"/>
            <a:ext cx="8001000" cy="3733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many engineers are the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2004 there was about 1.4 million jobs as engineers and the population is expected to increase even more by 201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3733920"/>
            <a:ext cx="4419720" cy="2438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Kind of enginee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kinds of engineers I want to be is a nuclear engine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y deal with all nuclear activit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tarting out you earn about 94 thousand dollar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38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4724280"/>
            <a:ext cx="3962520" cy="1752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Nuclear engineer college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college I am hoping to go to is the Georgia institute of technolog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t majors in nuclear engineering and is one of the top colleges in America for nuclear engineering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383" name="" descr=""/>
          <p:cNvPicPr/>
          <p:nvPr/>
        </p:nvPicPr>
        <p:blipFill>
          <a:blip r:embed="rId1"/>
          <a:stretch/>
        </p:blipFill>
        <p:spPr>
          <a:xfrm>
            <a:off x="762120" y="4572000"/>
            <a:ext cx="8001000" cy="2286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18:32:33Z</dcterms:created>
  <dc:creator>Kenneth.Perinchief</dc:creator>
  <dc:description/>
  <dc:language>en-US</dc:language>
  <cp:lastModifiedBy>HP Authorized Customer</cp:lastModifiedBy>
  <dcterms:modified xsi:type="dcterms:W3CDTF">2008-05-04T21:14:32Z</dcterms:modified>
  <cp:revision>9</cp:revision>
  <dc:subject/>
  <dc:title>ENGINEER</dc:title>
</cp:coreProperties>
</file>